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10C9-590D-494F-BE39-8D5EFB4E90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E6C-8D62-4358-B76F-3D96FD96FD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A493-16A9-49E8-81E2-E942FEF493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 to Teachers: If students have not yet written a problem-solution analysis (see the Writing Workshop in this collection), they will need to research a problem and present a plausible solution to that problem for this assig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673-9598-4F9C-83B5-2FF6FE03A8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4957-F69E-4347-B66C-9F8B440A10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069-DE57-4713-AF7A-359CB24335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33C-D5F3-4BD9-BBC4-50F2B28D50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BFB-A927-4FEB-894D-3393DEF813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27D-730A-4A38-9A67-18EA0C548E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065E-7B9B-4B96-B122-F2513BC258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13">
            <a:hlinkClick r:id="" action="ppaction://hlinkshowjump?jump=firstslide"/>
          </p:cNvPr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4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5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6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7">
            <a:hlinkClick r:id="rId3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Listening and Speaking Workshop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9880" y="1754280"/>
            <a:ext cx="733716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Speaking Assig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Adapt Your Written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Rehearse and Deliver Your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 and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>
            <a:hlinkClick r:id="" action="ppaction://hlinkshowjump?jump=endshow"/>
          </p:cNvPr>
          <p:cNvSpPr/>
          <p:nvPr/>
        </p:nvSpPr>
        <p:spPr>
          <a:xfrm>
            <a:off x="7516800" y="5946840"/>
            <a:ext cx="800280" cy="911160"/>
          </a:xfrm>
          <a:custGeom>
            <a:avLst/>
            <a:gdLst>
              <a:gd name="textAreaLeft" fmla="*/ 51840 w 800280"/>
              <a:gd name="textAreaRight" fmla="*/ 748440 w 800280"/>
              <a:gd name="textAreaTop" fmla="*/ 51840 h 911160"/>
              <a:gd name="textAreaBottom" fmla="*/ 859320 h 911160"/>
            </a:gdLst>
            <a:ahLst/>
            <a:rect l="textAreaLeft" t="textAreaTop" r="textAreaRight" b="textAreaBottom"/>
            <a:pathLst>
              <a:path w="21600" h="24591">
                <a:moveTo>
                  <a:pt x="0" y="0"/>
                </a:moveTo>
                <a:lnTo>
                  <a:pt x="21600" y="0"/>
                </a:lnTo>
                <a:lnTo>
                  <a:pt x="21600" y="24591"/>
                </a:lnTo>
                <a:lnTo>
                  <a:pt x="0" y="24591"/>
                </a:lnTo>
                <a:close/>
              </a:path>
              <a:path fill="lightenLess" w="21600" h="24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91">
                <a:moveTo>
                  <a:pt x="21600" y="0"/>
                </a:moveTo>
                <a:lnTo>
                  <a:pt x="21600" y="24591"/>
                </a:lnTo>
                <a:lnTo>
                  <a:pt x="20200" y="23191"/>
                </a:lnTo>
                <a:lnTo>
                  <a:pt x="20200" y="1400"/>
                </a:lnTo>
                <a:close/>
              </a:path>
              <a:path fill="darkenLess" w="21600" h="24591">
                <a:moveTo>
                  <a:pt x="21600" y="24591"/>
                </a:moveTo>
                <a:lnTo>
                  <a:pt x="0" y="24591"/>
                </a:lnTo>
                <a:lnTo>
                  <a:pt x="1400" y="23191"/>
                </a:lnTo>
                <a:lnTo>
                  <a:pt x="20200" y="23191"/>
                </a:lnTo>
                <a:close/>
              </a:path>
              <a:path fill="lighten" w="21600" h="24591">
                <a:moveTo>
                  <a:pt x="0" y="24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7">
            <a:hlinkClick r:id="" action="ppaction://hlinkshowjump?jump=endshow"/>
          </p:cNvPr>
          <p:cNvSpPr/>
          <p:nvPr/>
        </p:nvSpPr>
        <p:spPr>
          <a:xfrm>
            <a:off x="6107040" y="5927760"/>
            <a:ext cx="790560" cy="93024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930240"/>
              <a:gd name="textAreaBottom" fmla="*/ 879120 h 930240"/>
            </a:gdLst>
            <a:ahLst/>
            <a:rect l="textAreaLeft" t="textAreaTop" r="textAreaRight" b="textAreaBottom"/>
            <a:pathLst>
              <a:path w="21600" h="25415">
                <a:moveTo>
                  <a:pt x="0" y="0"/>
                </a:moveTo>
                <a:lnTo>
                  <a:pt x="21600" y="0"/>
                </a:lnTo>
                <a:lnTo>
                  <a:pt x="21600" y="25415"/>
                </a:lnTo>
                <a:lnTo>
                  <a:pt x="0" y="25415"/>
                </a:lnTo>
                <a:close/>
              </a:path>
              <a:path fill="lightenLess" w="21600" h="254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15">
                <a:moveTo>
                  <a:pt x="21600" y="0"/>
                </a:moveTo>
                <a:lnTo>
                  <a:pt x="21600" y="25415"/>
                </a:lnTo>
                <a:lnTo>
                  <a:pt x="20200" y="24015"/>
                </a:lnTo>
                <a:lnTo>
                  <a:pt x="20200" y="1400"/>
                </a:lnTo>
                <a:close/>
              </a:path>
              <a:path fill="darkenLess" w="21600" h="25415">
                <a:moveTo>
                  <a:pt x="21600" y="25415"/>
                </a:moveTo>
                <a:lnTo>
                  <a:pt x="0" y="25415"/>
                </a:lnTo>
                <a:lnTo>
                  <a:pt x="1400" y="24015"/>
                </a:lnTo>
                <a:lnTo>
                  <a:pt x="20200" y="24015"/>
                </a:lnTo>
                <a:close/>
              </a:path>
              <a:path fill="lighten" w="21600" h="25415">
                <a:moveTo>
                  <a:pt x="0" y="254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peaking Assignment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dapt a written analysis into a formal persuasive speech that addresses a problem and presents a solu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539640" y="2841480"/>
            <a:ext cx="8077320" cy="2659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ave you ever felt moved by a public speaker’s call to action? How did that speaker grab and hold your atten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is workshop, you will learn to adapt the problem-solution analysis you have just completed into a convincing persuasive spe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49" descr=""/>
          <p:cNvPicPr/>
          <p:nvPr/>
        </p:nvPicPr>
        <p:blipFill>
          <a:blip r:embed="rId1"/>
          <a:stretch/>
        </p:blipFill>
        <p:spPr>
          <a:xfrm>
            <a:off x="5864400" y="23400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0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7" descr="c03lsw001"/>
          <p:cNvPicPr/>
          <p:nvPr/>
        </p:nvPicPr>
        <p:blipFill>
          <a:blip r:embed="rId1"/>
          <a:stretch/>
        </p:blipFill>
        <p:spPr>
          <a:xfrm>
            <a:off x="2743200" y="3352680"/>
            <a:ext cx="1743120" cy="2543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c03lsw002"/>
          <p:cNvPicPr/>
          <p:nvPr/>
        </p:nvPicPr>
        <p:blipFill>
          <a:blip r:embed="rId2"/>
          <a:stretch/>
        </p:blipFill>
        <p:spPr>
          <a:xfrm>
            <a:off x="4572000" y="3352680"/>
            <a:ext cx="1743120" cy="2543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r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urpos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n giving a persuasive speech is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528480" y="1908000"/>
            <a:ext cx="77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int out a particula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528480" y="244800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vince an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di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you have the best solution for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1397160" y="4035600"/>
            <a:ext cx="156204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6194520" y="4664160"/>
            <a:ext cx="1562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39" descr=""/>
          <p:cNvPicPr/>
          <p:nvPr/>
        </p:nvPicPr>
        <p:blipFill>
          <a:blip r:embed="rId3"/>
          <a:stretch/>
        </p:blipFill>
        <p:spPr>
          <a:xfrm>
            <a:off x="8373960" y="1617840"/>
            <a:ext cx="133560" cy="8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"/>
          <p:cNvPicPr/>
          <p:nvPr/>
        </p:nvPicPr>
        <p:blipFill>
          <a:blip r:embed="rId4"/>
          <a:stretch/>
        </p:blipFill>
        <p:spPr>
          <a:xfrm>
            <a:off x="5884920" y="21510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28480" y="2838600"/>
            <a:ext cx="77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ies the 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28480" y="3387600"/>
            <a:ext cx="779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resses your opinion about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ows us the best solution to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28480" y="1370160"/>
            <a:ext cx="834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thesis of a persuasive speech is 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sser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tatement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3354480" y="25160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4181400" y="30780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8"/>
          <p:cNvSpPr/>
          <p:nvPr/>
        </p:nvSpPr>
        <p:spPr>
          <a:xfrm>
            <a:off x="5757840" y="6075360"/>
            <a:ext cx="2560680" cy="782640"/>
          </a:xfrm>
          <a:custGeom>
            <a:avLst/>
            <a:gdLst>
              <a:gd name="textAreaLeft" fmla="*/ 50400 w 2560680"/>
              <a:gd name="textAreaRight" fmla="*/ 2510280 w 256068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70649" h="21600">
                <a:moveTo>
                  <a:pt x="0" y="0"/>
                </a:moveTo>
                <a:lnTo>
                  <a:pt x="70649" y="0"/>
                </a:lnTo>
                <a:lnTo>
                  <a:pt x="70649" y="21600"/>
                </a:lnTo>
                <a:lnTo>
                  <a:pt x="0" y="21600"/>
                </a:lnTo>
                <a:close/>
              </a:path>
              <a:path fill="lightenLess" w="70649" h="21600">
                <a:moveTo>
                  <a:pt x="0" y="0"/>
                </a:moveTo>
                <a:lnTo>
                  <a:pt x="70649" y="0"/>
                </a:lnTo>
                <a:lnTo>
                  <a:pt x="69249" y="1400"/>
                </a:lnTo>
                <a:lnTo>
                  <a:pt x="1400" y="1400"/>
                </a:lnTo>
                <a:close/>
              </a:path>
              <a:path fill="darken" w="70649" h="21600">
                <a:moveTo>
                  <a:pt x="70649" y="0"/>
                </a:moveTo>
                <a:lnTo>
                  <a:pt x="70649" y="21600"/>
                </a:lnTo>
                <a:lnTo>
                  <a:pt x="69249" y="20200"/>
                </a:lnTo>
                <a:lnTo>
                  <a:pt x="69249" y="1400"/>
                </a:lnTo>
                <a:close/>
              </a:path>
              <a:path fill="darkenLess" w="70649" h="21600">
                <a:moveTo>
                  <a:pt x="7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49" y="20200"/>
                </a:lnTo>
                <a:close/>
              </a:path>
              <a:path fill="lighten" w="7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09480" y="4495680"/>
            <a:ext cx="14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The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752480" y="4572000"/>
            <a:ext cx="65786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igh school students should apply their creative talents to help younger children learn healthy eating ha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33520" y="2286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larify what you m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27040" y="3749760"/>
            <a:ext cx="80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ay within the time limit of 2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520" y="28353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convincing solution is simple. Simplify the explanations of the problem and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d your speech aloud, and time yourself. Then add or subtract information as necessary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"/>
          <p:cNvPicPr/>
          <p:nvPr/>
        </p:nvPicPr>
        <p:blipFill>
          <a:blip r:embed="rId1"/>
          <a:stretch/>
        </p:blipFill>
        <p:spPr>
          <a:xfrm>
            <a:off x="7529400" y="19731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2"/>
          <a:stretch/>
        </p:blipFill>
        <p:spPr>
          <a:xfrm>
            <a:off x="4749840" y="2500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3"/>
          <a:stretch/>
        </p:blipFill>
        <p:spPr>
          <a:xfrm>
            <a:off x="7848720" y="3505320"/>
            <a:ext cx="114120" cy="7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 necessary, do additional research or interview other peopl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3520" y="2292480"/>
            <a:ext cx="48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additional reasons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vid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upport your proposed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33520" y="3565440"/>
            <a:ext cx="48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earn of othe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cer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unterargument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your listeners may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3119400" y="19684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5043600" y="3282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41247.JPG"/>
          <p:cNvPicPr/>
          <p:nvPr/>
        </p:nvPicPr>
        <p:blipFill>
          <a:blip r:embed="rId3"/>
          <a:srcRect l="1509" t="0" r="2165" b="0"/>
          <a:stretch/>
        </p:blipFill>
        <p:spPr>
          <a:xfrm>
            <a:off x="6053040" y="4056120"/>
            <a:ext cx="2557440" cy="175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9" descr=""/>
          <p:cNvPicPr/>
          <p:nvPr/>
        </p:nvPicPr>
        <p:blipFill>
          <a:blip r:embed="rId4"/>
          <a:stretch/>
        </p:blipFill>
        <p:spPr>
          <a:xfrm>
            <a:off x="533520" y="560700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c03lsw004"/>
          <p:cNvPicPr/>
          <p:nvPr/>
        </p:nvPicPr>
        <p:blipFill>
          <a:blip r:embed="rId5"/>
          <a:stretch/>
        </p:blipFill>
        <p:spPr>
          <a:xfrm>
            <a:off x="6095880" y="21337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c03lsw005"/>
          <p:cNvPicPr/>
          <p:nvPr/>
        </p:nvPicPr>
        <p:blipFill>
          <a:blip r:embed="rId6"/>
          <a:stretch/>
        </p:blipFill>
        <p:spPr>
          <a:xfrm>
            <a:off x="7467480" y="2133720"/>
            <a:ext cx="1143000" cy="167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ganize your speech in a logical, coherent ord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9480" y="2049480"/>
            <a:ext cx="347976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sis Stat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96880" y="2975040"/>
            <a:ext cx="349236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ackgroun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6880" y="3971880"/>
            <a:ext cx="349236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09480" y="5006880"/>
            <a:ext cx="34927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all to 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68880" y="2612880"/>
          <a:ext cx="3441600" cy="214632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sons and evidence in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order of importanc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33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33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econd strongest 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33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trongest 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" name="Line 58"/>
          <p:cNvSpPr/>
          <p:nvPr/>
        </p:nvSpPr>
        <p:spPr>
          <a:xfrm>
            <a:off x="2273400" y="2540160"/>
            <a:ext cx="0" cy="3301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2273400" y="3517920"/>
            <a:ext cx="0" cy="3301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60"/>
          <p:cNvSpPr/>
          <p:nvPr/>
        </p:nvSpPr>
        <p:spPr>
          <a:xfrm>
            <a:off x="2273400" y="4495680"/>
            <a:ext cx="0" cy="330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62"/>
          <p:cNvSpPr/>
          <p:nvPr/>
        </p:nvSpPr>
        <p:spPr>
          <a:xfrm>
            <a:off x="4089240" y="4178160"/>
            <a:ext cx="1079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74" descr=""/>
          <p:cNvPicPr/>
          <p:nvPr/>
        </p:nvPicPr>
        <p:blipFill>
          <a:blip r:embed="rId1"/>
          <a:stretch/>
        </p:blipFill>
        <p:spPr>
          <a:xfrm>
            <a:off x="8367840" y="1604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7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hearse and Deliver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28480" y="2282760"/>
            <a:ext cx="48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intaining eye contact as you sp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hearse your speech in front of a mirror or a few friends.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28480" y="3193920"/>
            <a:ext cx="48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eaking loudly, slowly, and expressively enough to be heard at the back of th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3309840" y="1974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2906640" y="2886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c03lsw006"/>
          <p:cNvPicPr/>
          <p:nvPr/>
        </p:nvPicPr>
        <p:blipFill>
          <a:blip r:embed="rId3"/>
          <a:stretch/>
        </p:blipFill>
        <p:spPr>
          <a:xfrm>
            <a:off x="6095880" y="2133720"/>
            <a:ext cx="254340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apt Your Written Analysis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3520" y="1370160"/>
            <a:ext cx="83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sons may include the rhetorical devices listed be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627280"/>
          <a:ext cx="8076960" cy="2244600"/>
        </p:xfrm>
        <a:graphic>
          <a:graphicData uri="http://schemas.openxmlformats.org/drawingml/2006/table">
            <a:tbl>
              <a:tblPr/>
              <a:tblGrid>
                <a:gridCol w="2865240"/>
                <a:gridCol w="5211720"/>
              </a:tblGrid>
              <a:tr h="417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hetorical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gical App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provide solid reas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motional App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use language to inspire strong 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thical App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ddress the listeners’ sense of right and wrong, and establish the credibility of the sp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98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2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3"/>
          <p:cNvSpPr/>
          <p:nvPr/>
        </p:nvSpPr>
        <p:spPr>
          <a:xfrm>
            <a:off x="5757840" y="6075360"/>
            <a:ext cx="2560680" cy="782640"/>
          </a:xfrm>
          <a:custGeom>
            <a:avLst/>
            <a:gdLst>
              <a:gd name="textAreaLeft" fmla="*/ 50400 w 2560680"/>
              <a:gd name="textAreaRight" fmla="*/ 2510280 w 256068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70649" h="21600">
                <a:moveTo>
                  <a:pt x="0" y="0"/>
                </a:moveTo>
                <a:lnTo>
                  <a:pt x="70649" y="0"/>
                </a:lnTo>
                <a:lnTo>
                  <a:pt x="70649" y="21600"/>
                </a:lnTo>
                <a:lnTo>
                  <a:pt x="0" y="21600"/>
                </a:lnTo>
                <a:close/>
              </a:path>
              <a:path fill="lightenLess" w="70649" h="21600">
                <a:moveTo>
                  <a:pt x="0" y="0"/>
                </a:moveTo>
                <a:lnTo>
                  <a:pt x="70649" y="0"/>
                </a:lnTo>
                <a:lnTo>
                  <a:pt x="69249" y="1400"/>
                </a:lnTo>
                <a:lnTo>
                  <a:pt x="1400" y="1400"/>
                </a:lnTo>
                <a:close/>
              </a:path>
              <a:path fill="darken" w="70649" h="21600">
                <a:moveTo>
                  <a:pt x="70649" y="0"/>
                </a:moveTo>
                <a:lnTo>
                  <a:pt x="70649" y="21600"/>
                </a:lnTo>
                <a:lnTo>
                  <a:pt x="69249" y="20200"/>
                </a:lnTo>
                <a:lnTo>
                  <a:pt x="69249" y="1400"/>
                </a:lnTo>
                <a:close/>
              </a:path>
              <a:path fill="darkenLess" w="70649" h="21600">
                <a:moveTo>
                  <a:pt x="7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49" y="20200"/>
                </a:lnTo>
                <a:close/>
              </a:path>
              <a:path fill="lighten" w="7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Tamesa Williams</dc:creator>
  <dc:description/>
  <dc:language>en-US</dc:language>
  <cp:lastModifiedBy>Dan Olsen</cp:lastModifiedBy>
  <cp:lastPrinted>2004-12-14T19:41:04Z</cp:lastPrinted>
  <dcterms:modified xsi:type="dcterms:W3CDTF">2010-12-02T19:38:57Z</dcterms:modified>
  <cp:revision>541</cp:revision>
  <dc:subject/>
  <dc:title>Slide 1</dc:title>
</cp:coreProperties>
</file>